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168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91429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7960" y="4089960"/>
            <a:ext cx="91429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300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7960" y="40899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5193000" y="40899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99280" y="17823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690600" y="17823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7960" y="40899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599280" y="40899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690600" y="4089960"/>
            <a:ext cx="29437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507960" y="1782360"/>
            <a:ext cx="914292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914292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6148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5193000" y="1782360"/>
            <a:ext cx="446148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3000" y="1782360"/>
            <a:ext cx="446148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507960" y="40899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61480" cy="44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9300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193000" y="40899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796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93000" y="1782360"/>
            <a:ext cx="446148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7960" y="4089960"/>
            <a:ext cx="9142920" cy="21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5" descr="C:\Users\rakesh.jawale\Desktop\HSGEO15_TC_C07_L1_ls04\Image.png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-22320" y="-12600"/>
            <a:ext cx="10180800" cy="7637400"/>
          </a:xfrm>
          <a:prstGeom prst="rect">
            <a:avLst/>
          </a:prstGeom>
          <a:ln w="0">
            <a:noFill/>
          </a:ln>
        </p:spPr>
      </p:pic>
      <p:sp>
        <p:nvSpPr>
          <p:cNvPr id="37" name="Text Box 3">
            <a:hlinkClick r:id="" action="ppaction://hlinkshowjump?jump=nextslide"/>
          </p:cNvPr>
          <p:cNvSpPr/>
          <p:nvPr/>
        </p:nvSpPr>
        <p:spPr>
          <a:xfrm>
            <a:off x="122400" y="1440"/>
            <a:ext cx="535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nne Frank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8" name="Text Box 14">
            <a:hlinkClick r:id="" action="ppaction://hlinkshowjump?jump=nextslide"/>
          </p:cNvPr>
          <p:cNvSpPr/>
          <p:nvPr/>
        </p:nvSpPr>
        <p:spPr>
          <a:xfrm>
            <a:off x="855720" y="1085760"/>
            <a:ext cx="8667720" cy="51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spite of everything, I still believe that people are really good at heart. I simply can't build up my hopes on a foundation consisting of confusion, misery, and death. I see the world gradually being turned into a wilderness, I hear the ever approaching thunder, which will destroy us too, I can feel the sufferings of millions and yet, if I look up into the heavens, I think that it will all come right, that this cruelty too will end, and that peace and tranquility will return again.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yriad Pro"/>
            </a:endParaRPr>
          </a:p>
          <a:p>
            <a:pPr algn="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—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nne Frank, 1944</a:t>
            </a:r>
            <a:endParaRPr b="0" lang="en-US" sz="2100" spc="-1" strike="noStrike">
              <a:solidFill>
                <a:srgbClr val="000000"/>
              </a:solidFill>
              <a:latin typeface="Myriad Pro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yriad Pro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hat do you know about Anne Frank?</a:t>
            </a:r>
            <a:endParaRPr b="0" lang="en-US" sz="24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39" name="Text Box 14">
            <a:hlinkClick r:id="" action="ppaction://hlinkshowjump?jump=nextslide"/>
          </p:cNvPr>
          <p:cNvSpPr/>
          <p:nvPr/>
        </p:nvSpPr>
        <p:spPr>
          <a:xfrm>
            <a:off x="652320" y="1008000"/>
            <a:ext cx="6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  <p:sp>
        <p:nvSpPr>
          <p:cNvPr id="40" name="Text Box 14">
            <a:hlinkClick r:id="" action="ppaction://hlinkshowjump?jump=nextslide"/>
          </p:cNvPr>
          <p:cNvSpPr/>
          <p:nvPr/>
        </p:nvSpPr>
        <p:spPr>
          <a:xfrm>
            <a:off x="8298000" y="397980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23:17:57Z</dcterms:created>
  <dc:creator>Jim Larkin</dc:creator>
  <dc:description/>
  <cp:keywords/>
  <dc:language>en-US</dc:language>
  <cp:lastModifiedBy>Sacerdote, Kevin R.</cp:lastModifiedBy>
  <dcterms:modified xsi:type="dcterms:W3CDTF">2016-01-23T19:30:26Z</dcterms:modified>
  <cp:revision>9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sMyDocuments">
    <vt:lpwstr>1</vt:lpwstr>
  </property>
  <property fmtid="{D5CDD505-2E9C-101B-9397-08002B2CF9AE}" pid="3" name="KSOProductBuildVer">
    <vt:lpwstr>1033-9.1.0.4674</vt:lpwstr>
  </property>
</Properties>
</file>